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3AE-903E-47FB-8D9E-6BB1E8D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3D1-16D2-4EC7-957E-5268E66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C39-739A-4ED4-A5A1-616B30D6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ED8-C86B-4597-BFBA-7449F2E7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019-8F59-4B90-BDF0-F5DF98B1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1698-7071-4BA0-BF4E-3FAA1FD5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44F8-F02E-4B8B-B87D-4FEC482B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FB34-C206-431A-B8AC-278EF27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0812-B92D-4205-BA77-320C8BD5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8A9B-87AE-4C98-93FF-6EAEE599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96C-2CDF-457C-9290-E6908C4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95E-8543-4647-9915-64E1D2E4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CFB-7EB2-4BA3-ABAD-3FDF471E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84BA-2CFB-44C3-9410-B276D4C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93C-3475-4BCE-B7EE-5B6B3A6C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206-EF7E-4D8B-B9FF-496EC91C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F9B9-3417-4E8F-BD4B-6FB0E662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F01B-A939-4B3A-9D2C-A1C0A445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6453-1424-4C72-B9FD-CE5CD6A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3AC2-AE3E-4876-97D7-F0BA5F8F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680B-F73D-4B07-9AB9-EFB129D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70A0-7B85-453A-A0E0-AA3E465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A34-8423-41BE-BEED-4B34133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4EC8-683E-43C8-963A-212451B1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7762-C164-4509-AFDF-45AB8E4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F2A8-5A9E-40BB-8110-89BA712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8F41-D461-429D-8D1A-9A38AAE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D48B-2AA2-46F4-8BAF-A3C0DC88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792C-810C-48B7-B565-F37E0E88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B6C6-402D-43C2-B7AC-8143BCFF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BCBC-5F3D-4A61-A29C-178B5D7E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3E1B-9167-4168-AE8E-D89084F0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E475-2F56-4336-A1A8-556F70E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6B2-6A70-4402-8DDE-3C61D551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5A88-5A4F-4BC9-BEFB-8628193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59C7-305B-43AB-9B6F-4BA1478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663B-C4FB-466C-8F47-BE870E2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80A0-407D-4490-B346-70B3D91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812F-9929-4E6A-A3FB-33FB964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CDCC-3CF8-47F2-A00B-AE1CC9B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5E6E-71B5-4A9F-8082-3113A5B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19FF-591C-4C29-8548-3C10C29C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4940-AAF5-4342-9821-8C191A13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CD5-A788-4601-BD9A-4DBD99F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4F2-B946-42E4-8BD1-1E251F71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BC1-129C-41DA-BBD2-D643E073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19E-5DA1-4F1E-B365-3CF5ECC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904-33AF-4844-9254-0C1F90C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29CC-E209-4BB2-BF21-6196A324D1B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BB82-F2E5-4325-9562-3BFE2DA068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35C-4D94-4C67-BAA8-1BB01EAE456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A586-793E-4975-ACA2-3DA87F6258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4EC0-07D4-4C03-AFEB-42D79BF2BAB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9265-2D9A-4570-B38A-ED02FA5E44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44F0-00C3-4D52-8B9A-13DDDBBE15F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8E7-05E8-44DF-8F7E-9689F6CA21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. 22 Warm-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do you remember about Charles Darwin and his scientific ideas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cording to Campbell, what is the definition of “evolution”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600" y="9903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utton / Lye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Gradualism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geologic change results from slow &amp; gradual, continuous proces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Uniformitarianism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Earth’s processes same rate in past &amp; pres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refore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Earth is very 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low &amp; subtle changes in organis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ig ch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22760" indent="-4158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Calibri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marcelopcarvalho.files.wordpress.com/2009/02/lyell.jpg"/>
          <p:cNvPicPr/>
          <p:nvPr/>
        </p:nvPicPr>
        <p:blipFill>
          <a:blip r:embed="rId1"/>
          <a:stretch/>
        </p:blipFill>
        <p:spPr>
          <a:xfrm>
            <a:off x="6477120" y="3876840"/>
            <a:ext cx="2286000" cy="27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cartage.org.lb/en/themes/sciences/earthscience/Geology/AboutGeology/Catastrophism/hutton.jpg"/>
          <p:cNvPicPr/>
          <p:nvPr/>
        </p:nvPicPr>
        <p:blipFill>
          <a:blip r:embed="rId2"/>
          <a:stretch/>
        </p:blipFill>
        <p:spPr>
          <a:xfrm>
            <a:off x="609480" y="3889440"/>
            <a:ext cx="1873440" cy="27399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4"/>
          <p:cNvSpPr/>
          <p:nvPr/>
        </p:nvSpPr>
        <p:spPr>
          <a:xfrm>
            <a:off x="3962520" y="55659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Lye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7-1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2057400" y="41961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Hut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6-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476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8380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50000" indent="-42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amarck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0000" indent="-4251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ublished theory of evolution (180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Use and Disus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parts of body us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igger, stronger (eg. giraffe’s neck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Inheritance of Acquired Characteristic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modifications can be passed 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Importanc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Recognized that species evolve, although explanation was flaw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45080" indent="-425160">
              <a:spcBef>
                <a:spcPts val="700"/>
              </a:spcBef>
              <a:buClr>
                <a:srgbClr val="009dd9"/>
              </a:buClr>
              <a:buSzPct val="70000"/>
              <a:buFont typeface="Calibri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971800" y="918000"/>
            <a:ext cx="4038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-Baptiste Lamar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44-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veeriku.tartu.ee/~ppensa/giraffe3.jpg"/>
          <p:cNvPicPr/>
          <p:nvPr/>
        </p:nvPicPr>
        <p:blipFill>
          <a:blip r:embed="rId2"/>
          <a:stretch/>
        </p:blipFill>
        <p:spPr>
          <a:xfrm>
            <a:off x="212760" y="3657600"/>
            <a:ext cx="18111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73400" y="837720"/>
            <a:ext cx="5943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Malthu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babies born than death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equences of overproducing within environment = war, famine, disease (limits of human pop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uggle for exist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http://www.nndb.com/people/250/000024178/malthus.jpg"/>
          <p:cNvPicPr/>
          <p:nvPr/>
        </p:nvPicPr>
        <p:blipFill>
          <a:blip r:embed="rId1"/>
          <a:stretch/>
        </p:blipFill>
        <p:spPr>
          <a:xfrm>
            <a:off x="380880" y="1447920"/>
            <a:ext cx="2514600" cy="329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farm3.static.flickr.com/2363/2779544031_f3ae2bff48.jpg"/>
          <p:cNvPicPr/>
          <p:nvPr/>
        </p:nvPicPr>
        <p:blipFill>
          <a:blip r:embed="rId2"/>
          <a:stretch/>
        </p:blipFill>
        <p:spPr>
          <a:xfrm>
            <a:off x="4038480" y="3962520"/>
            <a:ext cx="3810240" cy="25365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4"/>
          <p:cNvSpPr/>
          <p:nvPr/>
        </p:nvSpPr>
        <p:spPr>
          <a:xfrm>
            <a:off x="380880" y="4784760"/>
            <a:ext cx="2590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6-18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les Darw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9-1882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934640"/>
            <a:ext cx="4876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glish natural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831: joined th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HMS Beagl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a 5-year research voyage around the wor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llected and studied plant and animal specimens, bones,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able stop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alapagos Islan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1" descr="22_05bBeagleVoyage-L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92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MS Beagle (1831-183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Content Placeholder 1" descr="22_05aBeagleVoyage-L.jpg"/>
          <p:cNvPicPr/>
          <p:nvPr/>
        </p:nvPicPr>
        <p:blipFill>
          <a:blip r:embed="rId1"/>
          <a:srcRect l="0" t="2248" r="0" b="2248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A75F-130E-490F-88D6-3BD7C7FF92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lapagos Is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7" descr="gpcolor"/>
          <p:cNvPicPr/>
          <p:nvPr/>
        </p:nvPicPr>
        <p:blipFill>
          <a:blip r:embed="rId1"/>
          <a:stretch/>
        </p:blipFill>
        <p:spPr>
          <a:xfrm>
            <a:off x="4267080" y="1447920"/>
            <a:ext cx="4505400" cy="4991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galapagosone"/>
          <p:cNvPicPr/>
          <p:nvPr/>
        </p:nvPicPr>
        <p:blipFill>
          <a:blip r:embed="rId2"/>
          <a:stretch/>
        </p:blipFill>
        <p:spPr>
          <a:xfrm>
            <a:off x="380880" y="1523880"/>
            <a:ext cx="3429000" cy="2264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isla-baltra"/>
          <p:cNvPicPr/>
          <p:nvPr/>
        </p:nvPicPr>
        <p:blipFill>
          <a:blip r:embed="rId3"/>
          <a:stretch/>
        </p:blipFill>
        <p:spPr>
          <a:xfrm>
            <a:off x="304920" y="380196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22_02bDarwinContext-L.jpg"/>
          <p:cNvPicPr/>
          <p:nvPr/>
        </p:nvPicPr>
        <p:blipFill>
          <a:blip r:embed="rId1"/>
          <a:stretch/>
        </p:blipFill>
        <p:spPr>
          <a:xfrm>
            <a:off x="380880" y="457200"/>
            <a:ext cx="3827520" cy="2651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AD4-3E99-423B-A84A-67F0B841B5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014_14(2)"/>
          <p:cNvPicPr/>
          <p:nvPr/>
        </p:nvPicPr>
        <p:blipFill>
          <a:blip r:embed="rId2"/>
          <a:stretch/>
        </p:blipFill>
        <p:spPr>
          <a:xfrm>
            <a:off x="3962520" y="3809880"/>
            <a:ext cx="4952880" cy="275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72219530_8436517036"/>
          <p:cNvPicPr/>
          <p:nvPr/>
        </p:nvPicPr>
        <p:blipFill>
          <a:blip r:embed="rId3"/>
          <a:stretch/>
        </p:blipFill>
        <p:spPr>
          <a:xfrm>
            <a:off x="4572000" y="380880"/>
            <a:ext cx="4381560" cy="2882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galap_sealion"/>
          <p:cNvPicPr/>
          <p:nvPr/>
        </p:nvPicPr>
        <p:blipFill>
          <a:blip r:embed="rId4"/>
          <a:stretch/>
        </p:blipFill>
        <p:spPr>
          <a:xfrm>
            <a:off x="762120" y="4191120"/>
            <a:ext cx="2419200" cy="2038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galapagostwo"/>
          <p:cNvPicPr/>
          <p:nvPr/>
        </p:nvPicPr>
        <p:blipFill>
          <a:blip r:embed="rId5"/>
          <a:stretch/>
        </p:blipFill>
        <p:spPr>
          <a:xfrm>
            <a:off x="2666880" y="2514600"/>
            <a:ext cx="2857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22_06_BeakVariation-L.jpg"/>
          <p:cNvPicPr/>
          <p:nvPr/>
        </p:nvPicPr>
        <p:blipFill>
          <a:blip r:embed="rId1"/>
          <a:stretch/>
        </p:blipFill>
        <p:spPr>
          <a:xfrm>
            <a:off x="380880" y="1552680"/>
            <a:ext cx="6248520" cy="5048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arwin’s Finch Colle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334120" y="38862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The birds were all about the same size, but the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ize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of the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eaks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of each species were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BDD7-8F05-4818-A7F3-986C2188A3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4640" y="2437920"/>
            <a:ext cx="2971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iant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rto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6" descr="tortoisg"/>
          <p:cNvPicPr/>
          <p:nvPr/>
        </p:nvPicPr>
        <p:blipFill>
          <a:blip r:embed="rId1"/>
          <a:stretch/>
        </p:blipFill>
        <p:spPr>
          <a:xfrm>
            <a:off x="685800" y="2562120"/>
            <a:ext cx="4876920" cy="3294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533520" y="9907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ice-governor of the Galapagos Islands told Darwin that he could tell which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slan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 particular tortoise came from by looking at its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he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EDDC-3DC8-4FA3-A9AB-BDF709C678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rwin waited 30 years before he published his ideas on 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fred Russell Wallace – published paper on natural selection first (185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les Darwin (1859):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On the Origin of Species by Means of Natural Sel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chanism for evolution is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rwin didn’t use “evolution”, but rather “</a:t>
            </a: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descent with modifica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8560" cy="1981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95320" y="3228480"/>
            <a:ext cx="3892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cent with Modific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Darwinian View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 A: Darwin &amp; Natural Sel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917880" cy="538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2880" y="533520"/>
            <a:ext cx="365760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Origin of Species by Means of Natural Selection</a:t>
            </a: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harles Darw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859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1" descr="22_02dDarwinContext-L.jpg"/>
          <p:cNvPicPr/>
          <p:nvPr/>
        </p:nvPicPr>
        <p:blipFill>
          <a:blip r:embed="rId1"/>
          <a:stretch/>
        </p:blipFill>
        <p:spPr>
          <a:xfrm>
            <a:off x="457200" y="609480"/>
            <a:ext cx="4214880" cy="576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22_07DarwinIThinkTree-L.jpg"/>
          <p:cNvPicPr/>
          <p:nvPr/>
        </p:nvPicPr>
        <p:blipFill>
          <a:blip r:embed="rId2"/>
          <a:stretch/>
        </p:blipFill>
        <p:spPr>
          <a:xfrm>
            <a:off x="5334120" y="3352680"/>
            <a:ext cx="28954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920" y="10663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nhance an organism’s ability to survive and reprodu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Desert fox - large ears, arctic fox - small 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Overproduction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f offspring leads to 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competition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22_12_Camouflage-L.jpg"/>
          <p:cNvPicPr/>
          <p:nvPr/>
        </p:nvPicPr>
        <p:blipFill>
          <a:blip r:embed="rId1"/>
          <a:stretch/>
        </p:blipFill>
        <p:spPr>
          <a:xfrm>
            <a:off x="1295280" y="3657600"/>
            <a:ext cx="648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724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if humans can create substantial change over short time, nature can over long time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228600"/>
          <a:ext cx="8229600" cy="3960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tural S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tificial S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ure dec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” dec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ks on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e bree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breeding oc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. bea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. dalm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Key Ideas of Natural Selec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Competi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limited resources results i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differential surviva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Evolutionary Fitnes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Individuals with more favorable phenotypes more likely to survive and produce more offspring, and pass traits to future gener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nvironment changes or individuals move to new environment, new adaptations and new species may aris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Populations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olve, not individu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Lamarck’s view of the mechanism of evolution differed from Darwin’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adaptations, variation, time, reproductive success, and heritability in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scent with Mod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e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olutionary change is based on the interactions betwee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popul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&amp; their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which results i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(inherited characteristics) to increase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change over time in the genetic composition of a popu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storical Process of Sc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4379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ristotl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life-forms arranged on scale on increasing complexity (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scala natura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2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338560" cy="28843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5"/>
          <p:cNvSpPr/>
          <p:nvPr/>
        </p:nvSpPr>
        <p:spPr>
          <a:xfrm>
            <a:off x="5486400" y="5343120"/>
            <a:ext cx="2378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4-322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ld Testament - Creation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Earth ~6000 years old; perfect species individually designed by G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 theolog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discovering Creator’s plan by studying nature; to classify n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herokids.files.wordpress.com/2008/04/earth.jpg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429000" y="10666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innaeu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founder of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ain – Kingdom – Phylum – Class – Order – Family - Genus – Speci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li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ghetti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ains = Eubacteria, Archaea, Eukary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based on anatomy &amp; morph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903400" cy="37339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4"/>
          <p:cNvSpPr/>
          <p:nvPr/>
        </p:nvSpPr>
        <p:spPr>
          <a:xfrm>
            <a:off x="304920" y="48819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us Linnae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7-17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91440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uvi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leontologist – studied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eper strata (layers) - very different fossils from current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posed idea of 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Catastroph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catastrophe destroyed many living species, then repopulated by immigrant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5410080" y="3127680"/>
            <a:ext cx="4038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Cu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9-18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ttp://upload.wikimedia.org/wikipedia/en/thumb/9/90/Vincentwfa.jpg/220px-Vincentwfa.jpg"/>
          <p:cNvPicPr/>
          <p:nvPr/>
        </p:nvPicPr>
        <p:blipFill>
          <a:blip r:embed="rId1"/>
          <a:stretch/>
        </p:blipFill>
        <p:spPr>
          <a:xfrm>
            <a:off x="6324480" y="4572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upload.wikimedia.org/wikipedia/commons/thumb/8/87/Pterodactylus_antiquus_01_by_Line1.jpg/200px-Pterodactylus_antiquus_01_by_Line1.jpg"/>
          <p:cNvPicPr/>
          <p:nvPr/>
        </p:nvPicPr>
        <p:blipFill>
          <a:blip r:embed="rId2"/>
          <a:stretch/>
        </p:blipFill>
        <p:spPr>
          <a:xfrm>
            <a:off x="5964120" y="4295880"/>
            <a:ext cx="2874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88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22_03SedimentaryStrata-L.jpg"/>
          <p:cNvPicPr/>
          <p:nvPr/>
        </p:nvPicPr>
        <p:blipFill>
          <a:blip r:embed="rId2"/>
          <a:stretch/>
        </p:blipFill>
        <p:spPr>
          <a:xfrm>
            <a:off x="1371600" y="1752480"/>
            <a:ext cx="62485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8:31:25Z</dcterms:created>
  <dc:creator>Chris Nancy Chou</dc:creator>
  <dc:description/>
  <dc:language>en-US</dc:language>
  <cp:lastModifiedBy>local</cp:lastModifiedBy>
  <dcterms:modified xsi:type="dcterms:W3CDTF">2013-02-01T16:02:20Z</dcterms:modified>
  <cp:revision>29</cp:revision>
  <dc:subject/>
  <dc:title>Chapter 22</dc:title>
</cp:coreProperties>
</file>